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30944"/>
        <c:axId val="35552536"/>
      </c:barChart>
      <c:catAx>
        <c:axId val="54530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2536"/>
        <c:crosses val="autoZero"/>
        <c:auto val="1"/>
        <c:lblAlgn val="ctr"/>
        <c:lblOffset val="100"/>
        <c:noMultiLvlLbl val="0"/>
      </c:catAx>
      <c:valAx>
        <c:axId val="35552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30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12F-9CEB-48EB-9949-5A3FA24B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4DC-68D6-4E24-850D-A9E0DE1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EC5-ED60-43B3-8F87-36C827C1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E37-4E3F-4FEB-A3E3-A88D5044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05D-8AE6-4F51-839A-8359627C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F84-1E0B-4EA6-8284-17CD5783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175-4541-4C48-A175-D60FDA97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E35-C616-421E-AD8B-AEB9303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B15-D315-4BE4-9069-487B554E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C20-4A18-430F-B116-3188273C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378-E85D-484A-8F1C-FC5F8E6F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52B-2239-4490-ABEA-466AD26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FDE07-6416-4FF5-8B30-A69446B2DF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