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35935"/>
        <c:axId val="93362178"/>
      </c:barChart>
      <c:catAx>
        <c:axId val="30735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62178"/>
        <c:crosses val="autoZero"/>
        <c:auto val="1"/>
        <c:lblAlgn val="ctr"/>
        <c:lblOffset val="100"/>
        <c:noMultiLvlLbl val="0"/>
      </c:catAx>
      <c:valAx>
        <c:axId val="93362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35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D4A-50D8-4B48-B9E1-9C03F9E7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FE9-0AAE-43A7-9042-47AF39A8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C0B-D41C-4068-B64E-BA416C1A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228-E7F2-450D-BE69-B4CDE4FB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B78-7E03-4360-84B0-B141CC89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F8F-4973-45BA-9EC8-E438907B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219-503E-477B-BC05-02D71CE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D07-CEC8-4CC2-A9AF-9547B58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724-D10F-45CA-965E-71D847F6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56F-DF5F-4721-AC67-1D90B33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B35-72CD-4990-A24E-9449C4A7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EDA-437E-492D-8D7C-FAA43AF8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9FE09-6933-4297-91D9-0E5D93308F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